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9D0-F708-4602-A90B-F65968C3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CED-D4D1-4355-A5A3-9E0D76A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CE1-C8CC-467F-835F-2651F916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ECF-4330-4AFC-8362-358F91CF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D19-E9FB-4072-A6C8-F6F896F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277-312E-447D-96DF-6834B3BF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FED-2294-498C-A5B7-CE226DA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A8A-EF52-4350-B68F-7B7001B8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9B2-7983-40A1-A5DD-32CE1BC2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19E-C433-40AD-B2A5-ACCE1523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609-314B-487A-9BE3-DC1C4E8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1C3-D484-486B-9A1A-85098DE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D9C-193C-4252-A6A7-14FF1B20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F Representation using Detailed Clinical Models of Pati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8560" y="1219320"/>
            <a:ext cx="904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-year-old man with diabetes was referred to the Hypertension Clinic in Ji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School Hospital with symptoms of dizziness and orthostatic intole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, he started insulin therapy (Hemoglobin A1c 9 %), and in 2004, he was sta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once daily dose of valsartan 80 mg for hypertension. He sometimes compla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zziness and fainting while standing. On 13 February 2005, he fell down w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ing a bicycle. As the clinic BP was 84/60 mm Hg on 14 March, and the valsarta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ed. He was referred to otolaryngology and neurology, but no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ities were det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“Trip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ex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age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disease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"Hypertension Clinic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ypertension Clinic" department-of "Jichi Medical School Hospital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dizz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"orthostatic intoleranc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"Insulin Therapy"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-i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lab-result HemoglobinA1c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value 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Valsartan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ose 80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"Once Dail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opped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dizzines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fainting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position "while standing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history "fall"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activity "riding a bicycl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vital-sign B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ystolic 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iastolic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otolaryng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neu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([P1 clinical-finding abnormalit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emphasis 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840" y="274320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io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424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5380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560" y="2743200"/>
            <a:ext cx="184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zzinessAs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004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3960" y="4114800"/>
            <a:ext cx="1471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Valu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80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8800" y="5410080"/>
            <a:ext cx="912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596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88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100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2648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7680" y="404964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248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36160" y="5421240"/>
            <a:ext cx="1905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ion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108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4160" y="2743200"/>
            <a:ext cx="102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Resul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896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852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5400" y="2743200"/>
            <a:ext cx="1430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LabObs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895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036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62800" y="4114800"/>
            <a:ext cx="55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%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6416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2440" y="541008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068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37160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2572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084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96280" y="4049640"/>
            <a:ext cx="400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moglobinA1c/Hemoglobin.total:MFr:Pt:Bld: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720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0160" y="5421240"/>
            <a:ext cx="2833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ObsQn_KEY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4544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8120" y="2274840"/>
            <a:ext cx="166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p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78960" y="22860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750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8520" y="12952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1440" y="2274840"/>
            <a:ext cx="2849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astolicBloodPressure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427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0360" y="21225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2440" y="364644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579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4160" y="29718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2440" y="494172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0680" y="494172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39513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513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5720" y="43434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30840" y="43434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97720" y="3581280"/>
            <a:ext cx="3423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Measuremen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579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17200" y="2895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8000" y="4952880"/>
            <a:ext cx="3006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75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5440" y="419112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4360" y="6019920"/>
            <a:ext cx="567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50120" y="54975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5562720"/>
            <a:ext cx="342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UnitOfMeasure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9000" y="6400800"/>
            <a:ext cx="1227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Hg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571500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61722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6800" y="572616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0" y="61833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2:35:48Z</dcterms:created>
  <dc:creator>Partners Information Systems</dc:creator>
  <dc:description/>
  <dc:language>en-US</dc:language>
  <cp:lastModifiedBy>Partners Information Systems</cp:lastModifiedBy>
  <dcterms:modified xsi:type="dcterms:W3CDTF">2008-02-12T15:28:55Z</dcterms:modified>
  <cp:revision>11</cp:revision>
  <dc:subject/>
  <dc:title>RDF Representation using POMR of Patient 1</dc:title>
</cp:coreProperties>
</file>